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8E9-212C-4CE5-B3CE-F035D35B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D3B-9078-4250-98F9-264B7F8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5E7-826F-4EDE-82E6-468FDBB0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1D5-B20F-43A2-8C2B-19F337CF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8C3-4614-46E1-9A38-0C289993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9BD-90A3-4D59-A74D-0E41F27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FA5-2600-42C2-A271-42007E0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55F-090D-4018-ACD5-6279F20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A14-3F9B-464A-B4B4-259E4C9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7E2-52BF-467F-8BCD-17F61CC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5D7-29D8-4D91-9BC4-DAEB44E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4AB-AE72-4166-BF47-5FD6C0D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42A-7FF1-46CE-A1E6-FC2DD6A6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480000" cy="60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773360"/>
            <a:ext cx="813564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аркеты и моза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lum contrast="-68000"/>
          </a:blip>
          <a:stretch/>
        </p:blipFill>
        <p:spPr>
          <a:xfrm>
            <a:off x="324000" y="1341360"/>
            <a:ext cx="4284360" cy="260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-76000"/>
          </a:blip>
          <a:stretch/>
        </p:blipFill>
        <p:spPr>
          <a:xfrm>
            <a:off x="539640" y="4035600"/>
            <a:ext cx="3816360" cy="272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contrast="-74000"/>
          </a:blip>
          <a:stretch/>
        </p:blipFill>
        <p:spPr>
          <a:xfrm>
            <a:off x="4788000" y="1341360"/>
            <a:ext cx="3744720" cy="260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>
            <a:lum contrast="-78000"/>
          </a:blip>
          <a:stretch/>
        </p:blipFill>
        <p:spPr>
          <a:xfrm>
            <a:off x="4788000" y="407664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032000" cy="275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745080" cy="3476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Паркеты из правильных много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3, 3, 6, 6"/>
          <p:cNvPicPr/>
          <p:nvPr/>
        </p:nvPicPr>
        <p:blipFill>
          <a:blip r:embed="rId1"/>
          <a:stretch/>
        </p:blipFill>
        <p:spPr>
          <a:xfrm>
            <a:off x="395280" y="981000"/>
            <a:ext cx="2006640" cy="144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4, 6, 12"/>
          <p:cNvPicPr/>
          <p:nvPr/>
        </p:nvPicPr>
        <p:blipFill>
          <a:blip r:embed="rId2"/>
          <a:stretch/>
        </p:blipFill>
        <p:spPr>
          <a:xfrm>
            <a:off x="6659640" y="4941720"/>
            <a:ext cx="2166840" cy="162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1400040" cy="117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87308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48000" y="450864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700360" y="1557360"/>
            <a:ext cx="2016000" cy="1041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88000" y="3141720"/>
            <a:ext cx="19447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2411280" cy="162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9280" y="5024520"/>
            <a:ext cx="223200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7164360" y="2997360"/>
            <a:ext cx="1979640" cy="158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700360" y="3068640"/>
            <a:ext cx="1727280" cy="110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неправильных много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713120"/>
            <a:ext cx="3313080" cy="198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341928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3780000" cy="207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340000" y="3000240"/>
            <a:ext cx="5400720" cy="222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9640" y="1700280"/>
            <a:ext cx="3168720" cy="16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3348000" cy="234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2133720"/>
            <a:ext cx="2477880" cy="247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2000" y="3960720"/>
            <a:ext cx="3132000" cy="28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059280" y="4724280"/>
            <a:ext cx="2881080" cy="2133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24560" cy="158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99080" y="1484280"/>
            <a:ext cx="4444920" cy="489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3268440" cy="328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160440" cy="2838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1708200"/>
            <a:ext cx="4321080" cy="3952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252072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Рисунки для парк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3080" cy="26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7056360" cy="2597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Рисунки для паркетов и моза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96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1636560"/>
            <a:ext cx="4500720" cy="496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-80000"/>
          </a:blip>
          <a:stretch/>
        </p:blipFill>
        <p:spPr>
          <a:xfrm>
            <a:off x="250920" y="1125360"/>
            <a:ext cx="3889440" cy="243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lum contrast="-72000"/>
          </a:blip>
          <a:stretch/>
        </p:blipFill>
        <p:spPr>
          <a:xfrm>
            <a:off x="5003640" y="1138320"/>
            <a:ext cx="3857760" cy="243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contrast="-78000"/>
          </a:blip>
          <a:stretch/>
        </p:blipFill>
        <p:spPr>
          <a:xfrm>
            <a:off x="324000" y="386064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>
            <a:lum contrast="-64000"/>
          </a:blip>
          <a:stretch/>
        </p:blipFill>
        <p:spPr>
          <a:xfrm>
            <a:off x="5003640" y="3933720"/>
            <a:ext cx="3745080" cy="2581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2:48:20Z</dcterms:created>
  <dc:creator>Габов</dc:creator>
  <dc:description/>
  <dc:language>en-US</dc:language>
  <cp:lastModifiedBy>Габов</cp:lastModifiedBy>
  <dcterms:modified xsi:type="dcterms:W3CDTF">2006-04-06T09:20:59Z</dcterms:modified>
  <cp:revision>3</cp:revision>
  <dc:subject/>
  <dc:title>Паркеты и мозаики</dc:title>
</cp:coreProperties>
</file>